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41C-7B10-4D52-ACBE-D1028C42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F25-AB47-4FA5-BAA8-DB52899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2F0-AD4F-4428-B606-78AA6C8F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7A7-FF4A-48A3-ACD9-8BF7739F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8A3-1940-4A44-920B-D88365CA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0BB-D7A7-40AC-BF5B-F77FF412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E5B-50B9-4DDC-BF06-A8BF67D2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7C4-2236-404F-9F54-526808E4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BD4-536E-47BB-A143-D1A95ED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B8D-71FE-4D06-B849-D2326299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266-2161-4B5C-8324-5A75AD2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59B-E1B0-44D2-8AA9-AC4619E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32C-F318-4BB8-A959-911827E8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38320" y="2462040"/>
            <a:ext cx="7014960" cy="25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оят живот е във Те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илата ми е в Те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надеждата ми е в Теб! /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81080" y="2590920"/>
            <a:ext cx="69818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, Господи, хваля те 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ъс цяло сърце и душ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Хваля те аз със сила и у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адеждата ми е във Теб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1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138320" y="2462040"/>
            <a:ext cx="7014960" cy="25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оят живот е във Те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илата ми е в Те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надеждата ми е в Теб! /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19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1080" y="2590920"/>
            <a:ext cx="69818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, Господи, хваля те 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ъс цяло сърце и душ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Хваля те аз със сила и у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Надеждата ми е във Теб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1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38320" y="2462040"/>
            <a:ext cx="7014960" cy="25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оят живот е във Те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илата ми е в Те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 надеждата ми е в Теб! /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27:40Z</dcterms:created>
  <dc:creator>TrifonTrifonow</dc:creator>
  <dc:description/>
  <dc:language>en-US</dc:language>
  <cp:lastModifiedBy>TrifonTrifonow</cp:lastModifiedBy>
  <dcterms:modified xsi:type="dcterms:W3CDTF">2005-12-15T06:28:48Z</dcterms:modified>
  <cp:revision>1</cp:revision>
  <dc:subject/>
  <dc:title>Slide 1</dc:title>
</cp:coreProperties>
</file>